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B82F-A765-4FE1-BA03-DB5616F0266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50BA-8D42-485F-9A5F-591E8FFA073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30E2B-4B9E-4E7B-9AD9-8E8661BC0E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412EC-B219-4695-861A-79775F94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F4A03-916B-4306-9087-EE66DC7C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2ED4A-40A9-4D4F-8B1D-526F3A9033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00D97-F218-4621-A900-BBFA49DA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3DC85-A533-4D21-ADDA-6A9241E0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5CDFF-7372-433A-A7A1-E6A3E46C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B103C-27DC-4132-BF49-9E454C196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0B9D0-04E8-463B-9924-FCA6402B3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F1FD6-CFE9-4AF6-A7DA-B67ED7C3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E5A07-3495-4221-A09B-77354F8A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79355-DFA2-442C-B879-DF1B6BAA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EBD7-E093-4DAA-86CB-16CE710922B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59640"/>
                  <a:gd name="textAreaBottom" fmla="*/ 359640 h 35964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一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肝炎病毒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1448640" y="535788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99640" y="1341000"/>
            <a:ext cx="748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结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表面抗原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衣壳蛋白。主蛋白（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蛋白）是外衣壳的主要成分，可刺激机体产生中和抗体，是制备疫苗的最主要的成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HBcAg- 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衣壳蛋白，血液中一般查不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溶性游离于感染者血液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抵抗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抵抗力强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10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41160" y="191628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染源为乙肝患者及无症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携带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液传播、接触（密切接触和性接触）传播及母婴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临床表现复杂多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症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携带者、急性肝炎、慢性肝炎或重症肝炎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少数慢性感染者可发展为肝硬化和肝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病理损伤是乙肝发病机制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1483920"/>
            <a:ext cx="70264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抗体测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学检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两对半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抗体检测主要用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乙肝及判断预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筛选献血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流行病学调查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95280" y="1751040"/>
          <a:ext cx="8353440" cy="4486320"/>
        </p:xfrm>
        <a:graphic>
          <a:graphicData uri="http://schemas.openxmlformats.org/drawingml/2006/table">
            <a:tbl>
              <a:tblPr/>
              <a:tblGrid>
                <a:gridCol w="1146240"/>
                <a:gridCol w="1146240"/>
                <a:gridCol w="1062000"/>
                <a:gridCol w="1062000"/>
                <a:gridCol w="1062000"/>
                <a:gridCol w="1063440"/>
                <a:gridCol w="18115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sA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eA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c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Ig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c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Ig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e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s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结果解释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接种过乙肝疫苗，有免疫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乙肝急性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，病毒高复制，传染性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，病毒低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/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急性发作，病毒较高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/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乙肝恢复期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既往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71280" y="2133360"/>
            <a:ext cx="8034120" cy="30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控制传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特异性预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工被动免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人免疫球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I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治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干扰素、核苷（酸）类似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14240" y="2082960"/>
            <a:ext cx="803448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生物学特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有包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易发生变异，目前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基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型不同，其与疾病严重程度及对干扰素治疗的敏感性密切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5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41160" y="1915920"/>
            <a:ext cx="82515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经血液传播，丙肝患者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阳性血制品为主要传染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相比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特点包括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隐性感染多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更易慢性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原性较弱，易导致免疫耐受或持续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123640" y="2420640"/>
            <a:ext cx="50101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LIS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查抗体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查核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疫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其他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14240" y="1223640"/>
            <a:ext cx="80344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丁型肝炎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DV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陷病毒，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辅助复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D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播途径、抗性等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类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感染类型：联合感染和重叠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戊型肝炎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EV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青壮年发病为主，临床表现类似甲肝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孕妇病情较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4000" y="263700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通过消化道感染引起急性肝炎的病毒有哪些？通过血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母婴传播的肝炎病毒有哪些？其生物学性状和致病性有哪些异同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“两对半”检查的内容和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003320" y="2565000"/>
            <a:ext cx="71690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炎病毒是指以侵害肝脏为主，引起病毒性肝炎的一组不同种属的病毒。包括：甲、乙、丙、丁、戊五个型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79280" y="1511280"/>
          <a:ext cx="8785440" cy="4654440"/>
        </p:xfrm>
        <a:graphic>
          <a:graphicData uri="http://schemas.openxmlformats.org/drawingml/2006/table">
            <a:tbl>
              <a:tblPr/>
              <a:tblGrid>
                <a:gridCol w="1152720"/>
                <a:gridCol w="1584360"/>
                <a:gridCol w="1655640"/>
                <a:gridCol w="1295280"/>
                <a:gridCol w="1225800"/>
                <a:gridCol w="1871640"/>
              </a:tblGrid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病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A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C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D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E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分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R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科嗜肝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嗜肝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科正嗜肝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黄病毒科丙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未确定丁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戊型肝炎病毒科戊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27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42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55~65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35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30~32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包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sD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传播途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粪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口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母婴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血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血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母婴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同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HB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粪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口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性化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致癌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免疫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同型免疫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减毒活疫苗灭活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工程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HBV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工程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，衣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；核酸具感染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强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5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原性稳定，一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感染多种细胞，但不引起明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41160" y="191628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染源为患者及隐性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群普遍易感，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0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隐性感染，多见于幼儿；显性感染多发生于儿童及青少年；成人感染病变较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肝一般预后良好，不转为慢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后，一般终生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009520" y="2060640"/>
            <a:ext cx="573084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LIS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g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预防控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加强饮食业、水源等的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接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完全双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有包膜（又称外衣壳），内衣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者血清中可见三种病毒相关颗粒：大球型颗粒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an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）、小球型颗粒和管型颗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an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感染性、结构完整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。包含核心和双层衣壳，直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2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球性颗粒和管型颗粒是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产生的过剩表面蛋白聚合而成，不含核酸，无感染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26920" y="2133720"/>
            <a:ext cx="80661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结构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开放读码框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包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，编码构成外衣壳的主蛋白（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、中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+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和大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+preS1+S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内衣壳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cA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（有逆转录活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xAg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肝癌发生有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26T08:13:35Z</dcterms:modified>
  <cp:revision>198</cp:revision>
  <dc:subject/>
  <dc:title>内科护理学</dc:title>
</cp:coreProperties>
</file>